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393-9B1B-40B3-85E7-5DF9DE23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740-AD87-4885-BDA9-ED94821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9CC-0A5C-425F-B589-36BC0789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934-24EC-430C-898A-555B1955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F121-A4C6-40AF-B2D9-D39C140E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2607-E8A6-4E22-80BA-F4A6FEB8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CB5B-4353-481E-9201-1DF3692C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9F63-D6D2-4CB2-8468-213D3C6D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1D29-90AB-41E8-8D79-D18D1E3D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8C39-4A1F-4C5E-932C-4FD8857E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EA15-76DE-4089-AB0B-38A17D8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7A4-45F6-4AB8-938D-176C30B4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7BCA-6B18-4CCD-A79E-A50A92BC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EB0F-D5AD-45AA-8500-2F36734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6889-D4B0-4933-A5AA-6CB3E35C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EF17-47F4-4510-AF66-1B1494D7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DC5C-38F4-47BE-B6C2-DAB7DF93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F60B-27BD-4E67-9A69-BEBDC45F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DD00-2DA1-4160-ABA7-E5CBA444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4A13-E904-4E2E-85E5-3FDA0F96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3833-1D99-489F-8A03-B57CEC95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9181-2199-459B-8A99-0F7A7AE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FB7-6F1E-48D7-B0E6-6AA279F3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3A53-F8E6-4475-B1CB-4E8C70DF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8953-DF1E-44FC-8074-114D74A7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CE7E-F829-4A48-B929-B91855BF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F967-1C93-4876-B81A-82E7C24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84DA-B7E2-4063-9CA6-2E7910A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D427-21A4-4E44-8FDD-0D95E73C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F36D-5762-405D-A4B7-701FA231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97C8-DB71-4C05-B5E5-D333B39C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9285B-BEAF-4D98-ACA4-D5B05843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5122-1840-4A4B-9E54-245C4B18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0DA-78B6-4FAE-95FE-471CE889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4CB1-EC76-4967-9109-E4F3C8FB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B4E0-D171-428D-8D61-B8B3879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2FE1-0035-4263-BB24-1E703AF1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1F4D-D246-4F9A-9D3E-D1DD20D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664C0-A151-48C9-A7FA-A2F39163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2C80-3C8F-4EF2-9A1C-4919E2E3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5A79-9779-475A-BD17-71EE283A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26C57-0065-4A62-84F7-5C6008B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CCBB-E9CC-4300-A0F9-CA003854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1EA53-9D22-44F4-85B8-389FCA29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EE7-FC8D-416F-9F08-712521F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A88A-3F53-41D4-AD7C-48A4674B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A23F-540A-4D14-AB29-8CF8EBA7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7C96-7E1F-4512-ADAA-F12FC789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9EF5-C07E-4B59-BA88-E4D12E6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B5EE-0EC6-4877-BD77-1196D253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CFD25-D2AF-48A2-8E5C-5A1EC1C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0006A-4BD3-449F-9EC1-0048B66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00A5-457C-46A0-9283-52E0FFF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9026C-802E-4D65-8ABE-D3476DC7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40BC3-80A2-4FDF-81F7-EB2013B2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658-D4D8-48EC-806C-DC402A38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810C-694F-4AE5-9950-A8AF7B5C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627BE-D5F7-4BC5-93D2-C4433E2B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2028-4C77-47CF-8DEB-48E332C7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6757C-4BA5-4598-817F-A0CA5C6D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72E5-4673-4A08-97BB-73886B3E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77B0-A0E3-4FFE-B447-AFB7D596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2953-BF5D-4FC2-A8A7-7921AC6F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267F9-ED76-4C6C-B40D-0D44E07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1FD6-FFE4-478C-97B4-B6A3424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03C75-9043-4DA0-B781-3314768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22B-B878-4CA5-8D7A-44C0105D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F8523-4DFC-4F33-AB31-4EA94B38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BF511-D5F7-4DB9-B834-D1C54136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5AEC-0215-4784-8179-592617B9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318D-8EA1-4D8C-935A-687BB307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B5E1-9E89-4038-BDA0-5A7982C9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8575D-C329-4D37-8326-5AB93630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1106-E7BD-48F7-B870-F251088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876C-5E64-4FAD-96FB-715B105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5DBB-B43E-4079-81D4-19CA2F1E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65A4-56E7-44D6-B7F2-3C532BC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4D1-48F2-463D-9827-85FE653B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BF3B-CCB3-46BF-944E-6E778A3E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3D99-B41D-4D0A-85B1-2682F0C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FED85-5B33-41B0-A59C-62921FE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1D8BA-66B0-4144-89C3-2CC68DD9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BCBB5-A68A-44B7-A862-179E2F7B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C60-1766-4FA0-B83E-B941EC67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D4FE-234E-4AD5-98A6-2B79D6AA8F18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11C3-7FD3-4784-A4F9-F670754B7462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F11-1AC3-47C6-A97D-04FABFB6CADE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F9CA-C2A7-4A8A-B1F4-322D449C27B7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B007-DD43-4A5C-B132-A22C55F70A26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3056-6A03-46E9-9F4A-83570009A60A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BD71-1FA4-4494-9F61-57EB162FC11F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Sinergetic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An interactive GPS-Based tour of Dunedi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71680" y="160020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First version of the PDA Softw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Supporting documen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92160" y="281160"/>
            <a:ext cx="8502480" cy="1150920"/>
          </a:xfrm>
          <a:prstGeom prst="rect">
            <a:avLst/>
          </a:prstGeom>
          <a:ln w="0">
            <a:noFill/>
          </a:ln>
        </p:spPr>
      </p:pic>
      <p:pic>
        <p:nvPicPr>
          <p:cNvPr id="308" name="Content Placeholder 3" descr="pdamap.jpg"/>
          <p:cNvPicPr/>
          <p:nvPr/>
        </p:nvPicPr>
        <p:blipFill>
          <a:blip r:embed="rId2"/>
          <a:stretch/>
        </p:blipFill>
        <p:spPr>
          <a:xfrm>
            <a:off x="142920" y="1571760"/>
            <a:ext cx="2643120" cy="507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pdaimgview.jpg"/>
          <p:cNvPicPr/>
          <p:nvPr/>
        </p:nvPicPr>
        <p:blipFill>
          <a:blip r:embed="rId3"/>
          <a:stretch/>
        </p:blipFill>
        <p:spPr>
          <a:xfrm>
            <a:off x="6215040" y="1571760"/>
            <a:ext cx="2714760" cy="5072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sshot001.png"/>
          <p:cNvPicPr/>
          <p:nvPr/>
        </p:nvPicPr>
        <p:blipFill>
          <a:blip r:embed="rId4"/>
          <a:stretch/>
        </p:blipFill>
        <p:spPr>
          <a:xfrm>
            <a:off x="3000240" y="1571760"/>
            <a:ext cx="3071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3" descr="readme.jpg"/>
          <p:cNvPicPr/>
          <p:nvPr/>
        </p:nvPicPr>
        <p:blipFill>
          <a:blip r:embed="rId2"/>
          <a:stretch/>
        </p:blipFill>
        <p:spPr>
          <a:xfrm>
            <a:off x="1285920" y="1571760"/>
            <a:ext cx="61437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Revised version of PDA Softw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rbel"/>
              </a:rPr>
              <a:t>Implementing feedback from cli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PC-Based Tour Edi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Used to create and manipulate tours stored in an XML f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izard-bas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Designed with the non-technical user in mi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ill ship with a number of tutorials (possibly vide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Evaluation of second iteration deploymen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Review functional requirement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Design third iteration build for GPS tou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Design update for tour builde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October:  Final build  of Tour builder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October: GPS Tour update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 Deployment documentation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Final Deployment of packaged produc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 Complete Documentation for projec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5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Prepare for Panel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6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Panel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14:53Z</dcterms:created>
  <dc:creator>Default-User</dc:creator>
  <dc:description/>
  <dc:language>en-US</dc:language>
  <cp:lastModifiedBy>Default-User</cp:lastModifiedBy>
  <dcterms:modified xsi:type="dcterms:W3CDTF">2009-07-31T06:57:49Z</dcterms:modified>
  <cp:revision>18</cp:revision>
  <dc:subject/>
  <dc:title>Sinergetics</dc:title>
</cp:coreProperties>
</file>